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898-A767-4B79-A40F-0940DDB0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D87-C413-4543-B02C-1D127477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EE3-DE4E-454B-922D-DB73C018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C79-A85A-4992-BF82-1E752E55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677A-7419-4238-93CE-CF53BB4B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D543-715A-4A58-A1FF-BBA230FA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F68C-968C-48F2-97B0-0A473548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CB30-AC5B-4430-BC70-26AD35A0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AFCF-06FB-4619-86CB-D7E97E3F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AF82-EBB6-4051-9349-4DB0D7A8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2D5C-D4C1-48B9-9F9F-50B2AEE8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142-BFD3-4934-8EAB-B1FED418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DE1D-0B8D-4250-91A2-0DFB4EEE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5B54-E21C-4606-B17F-8E426AC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2B1A-F2C7-4002-B44B-13AC20CC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DC44-FC50-4C3C-84DB-54FB1E97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263F-4F83-49DC-AB07-0C8C27EF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EF3-31E3-4B61-92F9-AC2154DC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5DB-47E3-47A6-A71F-FF48C857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9A1-65C3-4492-96F8-29009D6A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B73-286E-4366-AB71-1A8FF5E4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73F-00D0-4749-BB83-8E49D99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D9F-4F59-46EB-98D5-48973C24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25D-8D4E-49D6-91EE-5882E2BF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892F-DA26-4E40-977F-ECE341C03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F5F-56C4-4823-8591-854171114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bf656"/>
                </a:solidFill>
                <a:latin typeface="Arial Black"/>
                <a:cs typeface="DecoType Naskh Swashes"/>
              </a:rPr>
              <a:t>بسم الله الرحمن الرحيم</a:t>
            </a:r>
            <a:r>
              <a:rPr b="1" lang="en-US" sz="3600" spc="-1" strike="noStrike">
                <a:solidFill>
                  <a:srgbClr val="9bf656"/>
                </a:solidFill>
                <a:latin typeface="Arial Black"/>
                <a:ea typeface="DecoType Naskh Swashes"/>
              </a:rPr>
              <a:t> </a:t>
            </a:r>
            <a:br>
              <a:rPr sz="36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الملتقى التربوي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ع تحيات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شرف قسم اللغة العربية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جمعة أبوعوده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0000"/>
                </a:solidFill>
                <a:latin typeface="Arial"/>
                <a:cs typeface="Al-Hadith1"/>
              </a:rPr>
              <a:t>أقسام الإدغ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08280"/>
            <a:ext cx="255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2708280"/>
            <a:ext cx="24847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ير غن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557360"/>
            <a:ext cx="3384720" cy="2303280"/>
          </a:xfrm>
          <a:prstGeom prst="wedgeEllipseCallout">
            <a:avLst>
              <a:gd name="adj1" fmla="val 73453"/>
              <a:gd name="adj2" fmla="val 1788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ركة تخر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ن الخيش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cc"/>
                </a:solidFill>
                <a:latin typeface="Arial"/>
              </a:rPr>
              <a:t>بمقدار حرك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4221000"/>
            <a:ext cx="136692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5373720"/>
            <a:ext cx="129708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516640"/>
            <a:ext cx="13669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149720"/>
            <a:ext cx="1512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373720"/>
            <a:ext cx="15130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92640"/>
            <a:ext cx="1368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Hadith1"/>
              </a:rPr>
              <a:t> الإقــــلا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1628640"/>
            <a:ext cx="1839960" cy="1295640"/>
          </a:xfrm>
          <a:prstGeom prst="leftArrow">
            <a:avLst>
              <a:gd name="adj1" fmla="val 98620"/>
              <a:gd name="adj2" fmla="val 35536"/>
            </a:avLst>
          </a:prstGeom>
          <a:solidFill>
            <a:srgbClr val="ffffb7"/>
          </a:solidFill>
          <a:ln w="93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6696000" cy="1224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هو قلب النون الساكنة أوالتنوين ميمًا عند الب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 مع مراعات  الغنة و الإخ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284640"/>
            <a:ext cx="3816360" cy="143964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97000 h 1439640"/>
              <a:gd name="textAreaBottom" fmla="*/ 11426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ف الإقلا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634600">
            <a:off x="2340000" y="4941720"/>
            <a:ext cx="3816360" cy="122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ب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إخف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Hesham Ghorn Italic"/>
              </a:rPr>
              <a:t>تعريفــ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و النطق بالنون الساكنة والتنوين وسطًا بين الإظه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إدغام مع بقاء ال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852640"/>
            <a:ext cx="2664000" cy="1224000"/>
          </a:xfrm>
          <a:custGeom>
            <a:avLst/>
            <a:gdLst>
              <a:gd name="textAreaLeft" fmla="*/ 21960 w 2664000"/>
              <a:gd name="textAreaRight" fmla="*/ 2642040 w 2664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734080"/>
            <a:ext cx="86421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ص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ف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ذ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ث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ن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ك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ج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ش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خص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ق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ا   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د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ط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بً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ز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Akhbar MT"/>
              </a:rPr>
              <a:t> فـ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قى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ض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ع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ظ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ل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3213000"/>
            <a:ext cx="86328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00536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284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357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869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00536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21300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4797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494172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869000"/>
            <a:ext cx="86364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نون والميم المشدّد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987640" cy="1152720"/>
          </a:xfrm>
          <a:prstGeom prst="leftArrow">
            <a:avLst>
              <a:gd name="adj1" fmla="val 74380"/>
              <a:gd name="adj2" fmla="val 73447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sham Ghorn Italic"/>
              </a:rPr>
              <a:t>       </a:t>
            </a:r>
            <a:r>
              <a:rPr b="0" lang="hi-IN" sz="3200" spc="-1" strike="noStrike">
                <a:solidFill>
                  <a:srgbClr val="ff3300"/>
                </a:solidFill>
                <a:latin typeface="Arial"/>
                <a:cs typeface="Hesham Ghorn Italic"/>
              </a:rPr>
              <a:t>ما هو الحرف المشد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1700280"/>
            <a:ext cx="431964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l-Hadith1"/>
              </a:rPr>
              <a:t>هو حرفان الأول ساكن و الثاني متحر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068640"/>
            <a:ext cx="16556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ثا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306864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3068640"/>
            <a:ext cx="50472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068640"/>
            <a:ext cx="10814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مّ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933720"/>
            <a:ext cx="4824360" cy="503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و ما قيل في الميم يقال في الن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6985080" cy="1008000"/>
          </a:xfrm>
          <a:custGeom>
            <a:avLst/>
            <a:gdLst>
              <a:gd name="textAreaLeft" fmla="*/ 1506600 w 6985080"/>
              <a:gd name="textAreaRight" fmla="*/ 5478480 w 6985080"/>
              <a:gd name="textAreaTop" fmla="*/ 217440 h 1008000"/>
              <a:gd name="textAreaBottom" fmla="*/ 790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48" y="14053"/>
                </a:lnTo>
                <a:lnTo>
                  <a:pt x="3163" y="18437"/>
                </a:lnTo>
                <a:lnTo>
                  <a:pt x="7407" y="18794"/>
                </a:lnTo>
                <a:lnTo>
                  <a:pt x="10800" y="21600"/>
                </a:lnTo>
                <a:lnTo>
                  <a:pt x="14053" y="18852"/>
                </a:lnTo>
                <a:lnTo>
                  <a:pt x="18437" y="18437"/>
                </a:lnTo>
                <a:lnTo>
                  <a:pt x="18794" y="14193"/>
                </a:lnTo>
                <a:lnTo>
                  <a:pt x="21600" y="10800"/>
                </a:lnTo>
                <a:lnTo>
                  <a:pt x="18852" y="7547"/>
                </a:lnTo>
                <a:lnTo>
                  <a:pt x="18437" y="3163"/>
                </a:lnTo>
                <a:lnTo>
                  <a:pt x="14193" y="2806"/>
                </a:lnTo>
                <a:lnTo>
                  <a:pt x="10800" y="0"/>
                </a:lnTo>
                <a:lnTo>
                  <a:pt x="7547" y="2748"/>
                </a:lnTo>
                <a:lnTo>
                  <a:pt x="3163" y="3163"/>
                </a:lnTo>
                <a:lnTo>
                  <a:pt x="2806" y="740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  <a:cs typeface="Al-Hadith1"/>
              </a:rPr>
              <a:t>و يسميان حرف غنة مش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إ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نَّ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الأبرار لفي نع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508640"/>
            <a:ext cx="27370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ث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مَّ </a:t>
            </a: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كلا سوف تعل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260280"/>
            <a:ext cx="5329440" cy="1297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l-Hadith1"/>
              </a:rPr>
              <a:t>أحكام الميم الساك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00360"/>
            <a:ext cx="3097080" cy="1197000"/>
          </a:xfrm>
          <a:custGeom>
            <a:avLst/>
            <a:gdLst>
              <a:gd name="textAreaLeft" fmla="*/ 705240 w 3097080"/>
              <a:gd name="textAreaRight" fmla="*/ 2391840 w 3097080"/>
              <a:gd name="textAreaTop" fmla="*/ 272520 h 1197000"/>
              <a:gd name="textAreaBottom" fmla="*/ 9244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9" y="13916"/>
                </a:lnTo>
                <a:lnTo>
                  <a:pt x="3163" y="18437"/>
                </a:lnTo>
                <a:lnTo>
                  <a:pt x="7550" y="18456"/>
                </a:lnTo>
                <a:lnTo>
                  <a:pt x="10800" y="21600"/>
                </a:lnTo>
                <a:lnTo>
                  <a:pt x="13916" y="18511"/>
                </a:lnTo>
                <a:lnTo>
                  <a:pt x="18437" y="18437"/>
                </a:lnTo>
                <a:lnTo>
                  <a:pt x="18456" y="14050"/>
                </a:lnTo>
                <a:lnTo>
                  <a:pt x="21600" y="10800"/>
                </a:lnTo>
                <a:lnTo>
                  <a:pt x="18511" y="7684"/>
                </a:lnTo>
                <a:lnTo>
                  <a:pt x="18437" y="3163"/>
                </a:lnTo>
                <a:lnTo>
                  <a:pt x="14050" y="3144"/>
                </a:lnTo>
                <a:lnTo>
                  <a:pt x="10800" y="0"/>
                </a:lnTo>
                <a:lnTo>
                  <a:pt x="7684" y="3089"/>
                </a:lnTo>
                <a:lnTo>
                  <a:pt x="3163" y="3163"/>
                </a:lnTo>
                <a:lnTo>
                  <a:pt x="3144" y="755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ما هي الميم الساكن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916280"/>
            <a:ext cx="4176720" cy="792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Arial"/>
              </a:rPr>
              <a:t>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1200"/>
            <a:ext cx="201636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00cc"/>
                </a:solidFill>
                <a:latin typeface="Arial"/>
              </a:rPr>
              <a:t>أمث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149720"/>
            <a:ext cx="3240360" cy="1628640"/>
          </a:xfrm>
          <a:custGeom>
            <a:avLst/>
            <a:gdLst>
              <a:gd name="textAreaLeft" fmla="*/ 757440 w 3240360"/>
              <a:gd name="textAreaRight" fmla="*/ 2482920 w 3240360"/>
              <a:gd name="textAreaTop" fmla="*/ 380520 h 1628640"/>
              <a:gd name="textAreaBottom" fmla="*/ 12481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9" y="13847"/>
                </a:lnTo>
                <a:lnTo>
                  <a:pt x="3163" y="18437"/>
                </a:lnTo>
                <a:lnTo>
                  <a:pt x="7622" y="18286"/>
                </a:lnTo>
                <a:lnTo>
                  <a:pt x="10800" y="21600"/>
                </a:lnTo>
                <a:lnTo>
                  <a:pt x="13847" y="18341"/>
                </a:lnTo>
                <a:lnTo>
                  <a:pt x="18437" y="18437"/>
                </a:lnTo>
                <a:lnTo>
                  <a:pt x="18286" y="13978"/>
                </a:lnTo>
                <a:lnTo>
                  <a:pt x="21600" y="10800"/>
                </a:lnTo>
                <a:lnTo>
                  <a:pt x="18341" y="7753"/>
                </a:lnTo>
                <a:lnTo>
                  <a:pt x="18437" y="3163"/>
                </a:lnTo>
                <a:lnTo>
                  <a:pt x="13978" y="3314"/>
                </a:lnTo>
                <a:lnTo>
                  <a:pt x="10800" y="0"/>
                </a:lnTo>
                <a:lnTo>
                  <a:pt x="7753" y="3259"/>
                </a:lnTo>
                <a:lnTo>
                  <a:pt x="3163" y="3163"/>
                </a:lnTo>
                <a:lnTo>
                  <a:pt x="3314" y="76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حكيمْ</a:t>
            </a:r>
            <a:r>
              <a:rPr b="0" lang="ar-S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149720"/>
            <a:ext cx="3240000" cy="1628640"/>
          </a:xfrm>
          <a:custGeom>
            <a:avLst/>
            <a:gdLst>
              <a:gd name="textAreaLeft" fmla="*/ 742680 w 3240000"/>
              <a:gd name="textAreaRight" fmla="*/ 2497320 w 3240000"/>
              <a:gd name="textAreaTop" fmla="*/ 373320 h 1628640"/>
              <a:gd name="textAreaBottom" fmla="*/ 12553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1" y="13898"/>
                </a:lnTo>
                <a:lnTo>
                  <a:pt x="3163" y="18437"/>
                </a:lnTo>
                <a:lnTo>
                  <a:pt x="7568" y="18413"/>
                </a:lnTo>
                <a:lnTo>
                  <a:pt x="10800" y="21600"/>
                </a:lnTo>
                <a:lnTo>
                  <a:pt x="13898" y="18469"/>
                </a:lnTo>
                <a:lnTo>
                  <a:pt x="18437" y="18437"/>
                </a:lnTo>
                <a:lnTo>
                  <a:pt x="18413" y="14032"/>
                </a:lnTo>
                <a:lnTo>
                  <a:pt x="21600" y="10800"/>
                </a:lnTo>
                <a:lnTo>
                  <a:pt x="18469" y="7702"/>
                </a:lnTo>
                <a:lnTo>
                  <a:pt x="18437" y="3163"/>
                </a:lnTo>
                <a:lnTo>
                  <a:pt x="14032" y="3187"/>
                </a:lnTo>
                <a:lnTo>
                  <a:pt x="10800" y="0"/>
                </a:lnTo>
                <a:lnTo>
                  <a:pt x="7702" y="3131"/>
                </a:lnTo>
                <a:lnTo>
                  <a:pt x="3163" y="3163"/>
                </a:lnTo>
                <a:lnTo>
                  <a:pt x="3187" y="7568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تمْسون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1979640" y="2133720"/>
            <a:ext cx="151272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2133720"/>
            <a:ext cx="1439640" cy="20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2133720"/>
            <a:ext cx="71640" cy="20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365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45fed"/>
                </a:solidFill>
                <a:latin typeface="Arial"/>
              </a:rPr>
              <a:t>الإخفاء الشف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2016000" cy="122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دغام الصغي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149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ظهار ال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60280"/>
            <a:ext cx="7705800" cy="144000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40000"/>
              <a:gd name="textAreaBottom" fmla="*/ 909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795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559"/>
                </a:lnTo>
                <a:arcTo wR="21600" hR="35552" stAng="-4611048" swAng="370838"/>
                <a:lnTo>
                  <a:pt x="18900" y="12608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63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608"/>
                </a:lnTo>
                <a:close/>
              </a:path>
              <a:path fill="none" w="21600" h="21600">
                <a:moveTo>
                  <a:pt x="5748" y="1463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63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559"/>
                </a:moveTo>
                <a:lnTo>
                  <a:pt x="3048" y="16014"/>
                </a:lnTo>
              </a:path>
              <a:path fill="none" w="21600" h="21600">
                <a:moveTo>
                  <a:pt x="18552" y="5559"/>
                </a:moveTo>
                <a:lnTo>
                  <a:pt x="18552" y="1601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cc"/>
                </a:solidFill>
                <a:latin typeface="Tahoma"/>
                <a:cs typeface="Tahoma"/>
              </a:rPr>
              <a:t>أحكام الميم الساكن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1413000"/>
            <a:ext cx="31687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لاثة أحكــام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خفاء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حرف الباء فإن حكمها   الإخف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cc"/>
                </a:solidFill>
                <a:latin typeface="Tahoma"/>
              </a:rPr>
              <a:t>و هو نطقها وسطًا بين الإدغام و الإظهار مع الغ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لماذا سمي إخفاء 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خروج الباء و الميم من الشف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4797360"/>
            <a:ext cx="784872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إنَّ الذين يخشون ربه</a:t>
            </a:r>
            <a:r>
              <a:rPr b="0" lang="hi-IN" sz="3600" spc="-1" strike="noStrike">
                <a:solidFill>
                  <a:srgbClr val="006600"/>
                </a:solidFill>
                <a:latin typeface="Arial"/>
              </a:rPr>
              <a:t>ـ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بـ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غيب لهم مغفرة وأجر كب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دغام الص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تدغم الميم الساكنة إذا جاء بعدها حرف واحد وهو( المي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إدغامًا صغيرًا بحيث يصبحان حرفًا واحدًا مشددًا مع الغ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3500280"/>
            <a:ext cx="327672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دغامًا صغير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429000"/>
            <a:ext cx="540072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سكون الحرف الأول و تحريك الثا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797360"/>
            <a:ext cx="633564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 أسقيناكــ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ءً فراتً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ظهار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جميع حروف الهج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 ( ما عدا الباء و الميم )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ظهارًا شفويً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أن الميم تخرج من الشفت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4869000"/>
            <a:ext cx="2448000" cy="1224000"/>
          </a:xfrm>
          <a:custGeom>
            <a:avLst/>
            <a:gdLst>
              <a:gd name="textAreaLeft" fmla="*/ 20160 w 2448000"/>
              <a:gd name="textAreaRight" fmla="*/ 2427840 w 2448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84640"/>
            <a:ext cx="5473440" cy="144000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جميع حروف الهجاء ما عدا الميم و الباء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Al-Hadith1"/>
              </a:rPr>
              <a:t>المـــد  و أقسا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1484280"/>
            <a:ext cx="3384720" cy="1152720"/>
          </a:xfrm>
          <a:prstGeom prst="cloudCallout">
            <a:avLst>
              <a:gd name="adj1" fmla="val 47185"/>
              <a:gd name="adj2" fmla="val 27134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5fed"/>
                </a:solidFill>
                <a:latin typeface="Arial"/>
              </a:rPr>
              <a:t>ما هو المد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4464000" cy="863640"/>
          </a:xfrm>
          <a:prstGeom prst="flowChartDocumen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إطالة الصوت بحرف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3284640"/>
            <a:ext cx="4969080" cy="1296720"/>
          </a:xfrm>
          <a:prstGeom prst="cloudCallout">
            <a:avLst>
              <a:gd name="adj1" fmla="val 64666"/>
              <a:gd name="adj2" fmla="val 15115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ما هي حروف المد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5229360"/>
            <a:ext cx="144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5fed"/>
                </a:solidFill>
                <a:latin typeface="Arial"/>
              </a:rPr>
              <a:t>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5300640"/>
            <a:ext cx="1366920" cy="100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5fed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157720"/>
            <a:ext cx="1440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45fed"/>
                </a:solidFill>
                <a:latin typeface="Arial"/>
              </a:rPr>
              <a:t>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221000"/>
            <a:ext cx="107964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59280" y="4365720"/>
            <a:ext cx="21744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4508640"/>
            <a:ext cx="144000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دورة مبسطة </a:t>
            </a:r>
            <a:br>
              <a:rPr sz="8000"/>
            </a:b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في علم التجويد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33036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608840 w 6624720"/>
              <a:gd name="textAreaRight" fmla="*/ 5015880 w 6624720"/>
              <a:gd name="textAreaTop" fmla="*/ 395280 h 1628640"/>
              <a:gd name="textAreaBottom" fmla="*/ 123336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7" y="13743"/>
                </a:lnTo>
                <a:lnTo>
                  <a:pt x="3163" y="18437"/>
                </a:lnTo>
                <a:lnTo>
                  <a:pt x="7731" y="18031"/>
                </a:lnTo>
                <a:lnTo>
                  <a:pt x="10800" y="21600"/>
                </a:lnTo>
                <a:lnTo>
                  <a:pt x="13743" y="18083"/>
                </a:lnTo>
                <a:lnTo>
                  <a:pt x="18437" y="18437"/>
                </a:lnTo>
                <a:lnTo>
                  <a:pt x="18031" y="13869"/>
                </a:lnTo>
                <a:lnTo>
                  <a:pt x="21600" y="10800"/>
                </a:lnTo>
                <a:lnTo>
                  <a:pt x="18083" y="7857"/>
                </a:lnTo>
                <a:lnTo>
                  <a:pt x="18437" y="3163"/>
                </a:lnTo>
                <a:lnTo>
                  <a:pt x="13869" y="3569"/>
                </a:lnTo>
                <a:lnTo>
                  <a:pt x="10800" y="0"/>
                </a:lnTo>
                <a:lnTo>
                  <a:pt x="7857" y="3517"/>
                </a:lnTo>
                <a:lnTo>
                  <a:pt x="3163" y="3163"/>
                </a:lnTo>
                <a:lnTo>
                  <a:pt x="3569" y="773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Hesham Ghorn Italic"/>
              </a:rPr>
              <a:t>أقســـــــام المد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413000"/>
            <a:ext cx="1008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59280" y="1413000"/>
            <a:ext cx="5061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205000"/>
            <a:ext cx="3924360" cy="3095640"/>
          </a:xfrm>
          <a:custGeom>
            <a:avLst/>
            <a:gdLst>
              <a:gd name="textAreaLeft" fmla="*/ 939240 w 3924360"/>
              <a:gd name="textAreaRight" fmla="*/ 2985120 w 3924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طبي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205000"/>
            <a:ext cx="4032360" cy="3095640"/>
          </a:xfrm>
          <a:custGeom>
            <a:avLst/>
            <a:gdLst>
              <a:gd name="textAreaLeft" fmla="*/ 964800 w 4032360"/>
              <a:gd name="textAreaRight" fmla="*/ 3067560 w 4032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فر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56000" y="260280"/>
            <a:ext cx="4392360" cy="100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45fed"/>
                </a:solidFill>
                <a:latin typeface="Arial"/>
                <a:cs typeface="Al-Hadith1"/>
              </a:rPr>
              <a:t>المـــد الطبيعي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1413000"/>
            <a:ext cx="2449440" cy="79200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9080" y="2637000"/>
            <a:ext cx="453564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و الوق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005360"/>
            <a:ext cx="468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قف دون الوص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661000"/>
            <a:ext cx="47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دون الوق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5759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و الذي لا يتوقف على سبب من همز أو سكو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و يمد بمقدار حركتي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2637000"/>
            <a:ext cx="374328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سلا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هي حتى مطلع الفج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860640"/>
            <a:ext cx="374328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 وجدك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ضال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هد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5589720"/>
            <a:ext cx="3743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سبح بحمد ربك و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ستغف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19280" y="0"/>
            <a:ext cx="6121440" cy="1628640"/>
          </a:xfrm>
          <a:custGeom>
            <a:avLst/>
            <a:gdLst>
              <a:gd name="textAreaLeft" fmla="*/ 1340280 w 6121440"/>
              <a:gd name="textAreaRight" fmla="*/ 4781160 w 6121440"/>
              <a:gd name="textAreaTop" fmla="*/ 356400 h 1628640"/>
              <a:gd name="textAreaBottom" fmla="*/ 127224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cc"/>
                </a:solidFill>
                <a:latin typeface="Arial"/>
                <a:cs typeface="Hesham Bold"/>
              </a:rPr>
              <a:t>أقســام المد الفرعي</a:t>
            </a:r>
            <a:r>
              <a:rPr b="0" lang="ar-SA" sz="7200" spc="-1" strike="noStrike">
                <a:solidFill>
                  <a:srgbClr val="ffffff"/>
                </a:solidFill>
                <a:latin typeface="Arial"/>
                <a:ea typeface="Hesham Ghorn Itali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177336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084640"/>
            <a:ext cx="2195280" cy="1152720"/>
          </a:xfrm>
          <a:custGeom>
            <a:avLst/>
            <a:gdLst>
              <a:gd name="textAreaLeft" fmla="*/ 383040 w 2195280"/>
              <a:gd name="textAreaRight" fmla="*/ 1812240 w 219528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د العا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لسكون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28464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84464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486900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بد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50028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413000"/>
            <a:ext cx="1368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1628640"/>
            <a:ext cx="1440000" cy="172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1700280"/>
            <a:ext cx="1368360" cy="30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280" y="1700280"/>
            <a:ext cx="505080" cy="33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1557360"/>
            <a:ext cx="1152360" cy="19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340000" y="1484280"/>
            <a:ext cx="129528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68360" y="144360"/>
            <a:ext cx="4176720" cy="1413000"/>
          </a:xfrm>
          <a:custGeom>
            <a:avLst/>
            <a:gdLst>
              <a:gd name="textAreaLeft" fmla="*/ 862200 w 4176720"/>
              <a:gd name="textAreaRight" fmla="*/ 3314520 w 4176720"/>
              <a:gd name="textAreaTop" fmla="*/ 291600 h 1413000"/>
              <a:gd name="textAreaBottom" fmla="*/ 11214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87" y="14159"/>
                </a:lnTo>
                <a:lnTo>
                  <a:pt x="3163" y="18437"/>
                </a:lnTo>
                <a:lnTo>
                  <a:pt x="7297" y="19053"/>
                </a:lnTo>
                <a:lnTo>
                  <a:pt x="10800" y="21600"/>
                </a:lnTo>
                <a:lnTo>
                  <a:pt x="14159" y="19113"/>
                </a:lnTo>
                <a:lnTo>
                  <a:pt x="18437" y="18437"/>
                </a:lnTo>
                <a:lnTo>
                  <a:pt x="19053" y="14303"/>
                </a:lnTo>
                <a:lnTo>
                  <a:pt x="21600" y="10800"/>
                </a:lnTo>
                <a:lnTo>
                  <a:pt x="19113" y="7441"/>
                </a:lnTo>
                <a:lnTo>
                  <a:pt x="18437" y="3163"/>
                </a:lnTo>
                <a:lnTo>
                  <a:pt x="14303" y="2547"/>
                </a:lnTo>
                <a:lnTo>
                  <a:pt x="10800" y="0"/>
                </a:lnTo>
                <a:lnTo>
                  <a:pt x="7441" y="2487"/>
                </a:lnTo>
                <a:lnTo>
                  <a:pt x="3163" y="3163"/>
                </a:lnTo>
                <a:lnTo>
                  <a:pt x="2547" y="729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62864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Akhbar MT"/>
              </a:rPr>
              <a:t>هو أن تأتي الهمزة بعد حرف المد في كلمة واحد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esham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إذا السم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ـا</a:t>
            </a: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DecoType Naskh Variants"/>
              </a:rPr>
              <a:t>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coType Naskh Variants"/>
              </a:rPr>
              <a:t>  انفطر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CS  Morg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484360" y="189000"/>
            <a:ext cx="5545080" cy="1152360"/>
          </a:xfrm>
          <a:custGeom>
            <a:avLst/>
            <a:gdLst>
              <a:gd name="textAreaLeft" fmla="*/ 811800 w 5545080"/>
              <a:gd name="textAreaRight" fmla="*/ 4733280 w 55450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7eef7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339920"/>
            <a:ext cx="6119640" cy="1225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هو أن يأتي حرف المد في آخر ال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و الهمزة  في  أول الكلمة التي تلي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ل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آ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أ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عبد ما تعبدون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651640" y="0"/>
            <a:ext cx="3384360" cy="1125360"/>
          </a:xfrm>
          <a:custGeom>
            <a:avLst/>
            <a:gdLst>
              <a:gd name="textAreaLeft" fmla="*/ 684000 w 3384360"/>
              <a:gd name="textAreaRight" fmla="*/ 2700360 w 3384360"/>
              <a:gd name="textAreaTop" fmla="*/ 227520 h 1125360"/>
              <a:gd name="textAreaBottom" fmla="*/ 8978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64" y="14208"/>
                </a:lnTo>
                <a:lnTo>
                  <a:pt x="3163" y="18437"/>
                </a:lnTo>
                <a:lnTo>
                  <a:pt x="7245" y="19175"/>
                </a:lnTo>
                <a:lnTo>
                  <a:pt x="10800" y="21600"/>
                </a:lnTo>
                <a:lnTo>
                  <a:pt x="14208" y="19236"/>
                </a:lnTo>
                <a:lnTo>
                  <a:pt x="18437" y="18437"/>
                </a:lnTo>
                <a:lnTo>
                  <a:pt x="19175" y="14355"/>
                </a:lnTo>
                <a:lnTo>
                  <a:pt x="21600" y="10800"/>
                </a:lnTo>
                <a:lnTo>
                  <a:pt x="19236" y="7392"/>
                </a:lnTo>
                <a:lnTo>
                  <a:pt x="18437" y="3163"/>
                </a:lnTo>
                <a:lnTo>
                  <a:pt x="14355" y="2425"/>
                </a:lnTo>
                <a:lnTo>
                  <a:pt x="10800" y="0"/>
                </a:lnTo>
                <a:lnTo>
                  <a:pt x="7392" y="2364"/>
                </a:lnTo>
                <a:lnTo>
                  <a:pt x="3163" y="3163"/>
                </a:lnTo>
                <a:lnTo>
                  <a:pt x="2425" y="72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Arial"/>
              </a:rPr>
              <a:t>مد البد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1268280"/>
            <a:ext cx="2160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43640" y="2349360"/>
            <a:ext cx="1800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221000"/>
            <a:ext cx="2089080" cy="93528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573408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634000"/>
            <a:ext cx="4608360" cy="963720"/>
          </a:xfrm>
          <a:prstGeom prst="wedgeEllipseCallout">
            <a:avLst>
              <a:gd name="adj1" fmla="val 72837"/>
              <a:gd name="adj2" fmla="val 1408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يمد حركت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640"/>
            <a:ext cx="6553080" cy="194472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7" y="0"/>
                </a:lnTo>
                <a:lnTo>
                  <a:pt x="21600" y="10800"/>
                </a:lnTo>
                <a:lnTo>
                  <a:pt x="179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ما كان أصله همزتين فأبدلت الثانية بحرف مد في كلمة واح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و الأصل في الكلمة التي تشتمل على مد بدل أ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تبدأ بهمز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فأبدلت الهمزة الثانية من جنس حركة الهمز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AL-Hor Outlin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637000"/>
            <a:ext cx="7524720" cy="1871640"/>
          </a:xfrm>
          <a:prstGeom prst="cloudCallout">
            <a:avLst>
              <a:gd name="adj1" fmla="val 50273"/>
              <a:gd name="adj2" fmla="val -65435"/>
            </a:avLst>
          </a:prstGeom>
          <a:gradFill rotWithShape="0">
            <a:gsLst>
              <a:gs pos="0">
                <a:srgbClr val="1e7a99"/>
              </a:gs>
              <a:gs pos="50000">
                <a:srgbClr val="33ccff"/>
              </a:gs>
              <a:gs pos="100000">
                <a:srgbClr val="1e7a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قال تعالى  ( فأمّا من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وتي </a:t>
            </a: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كتابه بيمين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أصل الكلمة (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أُتي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khbar MT"/>
              </a:rPr>
              <a:t> )فأبدلت الهمزة الثانية بحرف المد الواو لأنه من جنس الهمزة و هي الض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653000"/>
            <a:ext cx="3672000" cy="792000"/>
          </a:xfrm>
          <a:prstGeom prst="wedgeEllipseCallout">
            <a:avLst>
              <a:gd name="adj1" fmla="val 96305"/>
              <a:gd name="adj2" fmla="val -16532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الم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4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19280" y="144360"/>
            <a:ext cx="5689440" cy="1123920"/>
          </a:xfrm>
          <a:custGeom>
            <a:avLst/>
            <a:gdLst>
              <a:gd name="textAreaLeft" fmla="*/ 931320 w 5689440"/>
              <a:gd name="textAreaRight" fmla="*/ 4758120 w 5689440"/>
              <a:gd name="textAreaTop" fmla="*/ 183960 h 1123920"/>
              <a:gd name="textAreaBottom" fmla="*/ 93996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75" y="14648"/>
                </a:lnTo>
                <a:lnTo>
                  <a:pt x="3163" y="18437"/>
                </a:lnTo>
                <a:lnTo>
                  <a:pt x="6786" y="20256"/>
                </a:lnTo>
                <a:lnTo>
                  <a:pt x="10800" y="21600"/>
                </a:lnTo>
                <a:lnTo>
                  <a:pt x="14648" y="20325"/>
                </a:lnTo>
                <a:lnTo>
                  <a:pt x="18437" y="18437"/>
                </a:lnTo>
                <a:lnTo>
                  <a:pt x="20256" y="14814"/>
                </a:lnTo>
                <a:lnTo>
                  <a:pt x="21600" y="10800"/>
                </a:lnTo>
                <a:lnTo>
                  <a:pt x="20325" y="6952"/>
                </a:lnTo>
                <a:lnTo>
                  <a:pt x="18437" y="3163"/>
                </a:lnTo>
                <a:lnTo>
                  <a:pt x="14814" y="1344"/>
                </a:lnTo>
                <a:lnTo>
                  <a:pt x="10800" y="0"/>
                </a:lnTo>
                <a:lnTo>
                  <a:pt x="6952" y="1275"/>
                </a:lnTo>
                <a:lnTo>
                  <a:pt x="3163" y="3163"/>
                </a:lnTo>
                <a:lnTo>
                  <a:pt x="1344" y="67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dddddd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11111"/>
                </a:solidFill>
                <a:latin typeface="Arial"/>
              </a:rPr>
              <a:t>المد العارض للسكو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13000"/>
            <a:ext cx="6120000" cy="11523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Arabic Transparent"/>
              </a:rPr>
              <a:t>هو أن يأتي بعد حرف المد حرف متح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Arabic Transparent"/>
              </a:rPr>
              <a:t> ثم يسكن عند الوقف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قل أعوذ برب النـ</a:t>
            </a:r>
            <a:r>
              <a:rPr b="1" lang="ar-SA" sz="4400" spc="-1" strike="noStrike">
                <a:solidFill>
                  <a:srgbClr val="ff3300"/>
                </a:solidFill>
                <a:latin typeface="Arial"/>
              </a:rPr>
              <a:t>ا</a:t>
            </a: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سِ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933720"/>
            <a:ext cx="5184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157720"/>
            <a:ext cx="6048360" cy="1700280"/>
          </a:xfrm>
          <a:prstGeom prst="wedgeEllipseCallout">
            <a:avLst>
              <a:gd name="adj1" fmla="val 48768"/>
              <a:gd name="adj2" fmla="val 481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cs typeface="Akhbar MT"/>
              </a:rPr>
              <a:t>يمد بمقدار حركتين أو أرب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ea typeface="Akhbar MT"/>
              </a:rPr>
              <a:t> أو خمس حركات</a:t>
            </a: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144360"/>
            <a:ext cx="5184720" cy="836640"/>
          </a:xfrm>
          <a:custGeom>
            <a:avLst/>
            <a:gdLst>
              <a:gd name="textAreaLeft" fmla="*/ 759240 w 5184720"/>
              <a:gd name="textAreaRight" fmla="*/ 4425480 w 518472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l-Hadith1"/>
              </a:rPr>
              <a:t>مد الل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134136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126828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Akhbar MT"/>
              </a:rPr>
              <a:t>هو أن يقع بعد حرفي اللين سكون عارض لأجل الوق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20000" y="2276640"/>
            <a:ext cx="1800000" cy="863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00cc"/>
                </a:solidFill>
                <a:latin typeface="Arial"/>
                <a:cs typeface="Akhbar MT"/>
              </a:rPr>
              <a:t>حرفا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2349360"/>
            <a:ext cx="576108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ea typeface="Akhbar MT"/>
              </a:rPr>
              <a:t>( الواو و الياء ) الساكنتان  المفتوح ما قبله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357720"/>
            <a:ext cx="3887640" cy="1081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99"/>
                </a:solidFill>
                <a:latin typeface="Arial"/>
                <a:cs typeface="Akhbar MT"/>
              </a:rPr>
              <a:t>و ءامنهم من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خَوف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6192720" cy="1008000"/>
          </a:xfrm>
          <a:prstGeom prst="wedgeEllipseCallout">
            <a:avLst>
              <a:gd name="adj1" fmla="val 48796"/>
              <a:gd name="adj2" fmla="val -39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Akhbar MT"/>
              </a:rPr>
              <a:t>يمد حركتان أو أربع أو ست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429000"/>
            <a:ext cx="3745080" cy="1009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11111"/>
                </a:solidFill>
                <a:latin typeface="Arial"/>
                <a:cs typeface="Akhbar MT"/>
              </a:rPr>
              <a:t>فليعبدوا رب هذا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البَي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4653000"/>
            <a:ext cx="597528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cc"/>
                </a:solidFill>
                <a:latin typeface="Arial"/>
                <a:cs typeface="Tahoma"/>
              </a:rPr>
              <a:t>حكم مده : جواز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908000" y="144360"/>
            <a:ext cx="5185080" cy="836640"/>
          </a:xfrm>
          <a:custGeom>
            <a:avLst/>
            <a:gdLst>
              <a:gd name="textAreaLeft" fmla="*/ 759240 w 5185080"/>
              <a:gd name="textAreaRight" fmla="*/ 4425840 w 518508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rabic Transparent"/>
              </a:rPr>
              <a:t>المد اللاز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052640"/>
            <a:ext cx="1944720" cy="79200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360" y="1197000"/>
            <a:ext cx="6948720" cy="93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Tahoma"/>
              </a:rPr>
              <a:t>أن يأتي بعد حرف المد سكون أصلي في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2205000"/>
            <a:ext cx="1513080" cy="86364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أنواع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37432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فإذا جاءت  الطا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مَّـ</a:t>
            </a: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ـ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4653000"/>
            <a:ext cx="295092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وجوب 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516640"/>
            <a:ext cx="5761080" cy="1268280"/>
          </a:xfrm>
          <a:prstGeom prst="wedgeEllipseCallout">
            <a:avLst>
              <a:gd name="adj1" fmla="val 48703"/>
              <a:gd name="adj2" fmla="val -10574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ahoma"/>
              </a:rPr>
              <a:t>يمد ست حركات لجميع أنواع المد اللاز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2637000"/>
            <a:ext cx="93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71280" y="263700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56360" y="2205000"/>
            <a:ext cx="259236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ك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76640"/>
            <a:ext cx="2374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حرفـ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500280"/>
            <a:ext cx="35290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الم ــ الرــ حم،عس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04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4581360"/>
            <a:ext cx="3166920" cy="792360"/>
          </a:xfrm>
          <a:prstGeom prst="flowChartOnlineStorag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Tahoma"/>
              </a:rPr>
              <a:t>حكم مــ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6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68360" y="0"/>
            <a:ext cx="4967640" cy="1125360"/>
          </a:xfrm>
          <a:custGeom>
            <a:avLst/>
            <a:gdLst>
              <a:gd name="textAreaLeft" fmla="*/ 1087560 w 4967640"/>
              <a:gd name="textAreaRight" fmla="*/ 3880080 w 4967640"/>
              <a:gd name="textAreaTop" fmla="*/ 246240 h 1125360"/>
              <a:gd name="textAreaBottom" fmla="*/ 8791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90099"/>
                </a:solidFill>
                <a:latin typeface="Arial"/>
                <a:cs typeface="Tahoma"/>
              </a:rPr>
              <a:t>تطبيق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68280"/>
            <a:ext cx="8675640" cy="525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5736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س : كم حكما للنون الساكنة و التنوين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941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 عدد أنواع المد  بالتفصيل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73264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عرف المد المتصل ’ و بين حكم مده ، ومقدار مده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335772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اذكر أحكام الميم الساكنة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: ماذا يسميان النون و الميم المشددتان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2100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 : عرف الإدغام و كم حروف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 Black"/>
                <a:cs typeface="Al-Hadith1"/>
              </a:rPr>
              <a:t>دروس الدورة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آداب تلاوة القرآن و سماع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نون الساكنة و التنوي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نون و الميم المشدّدتا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ميم الساكنة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و أقسام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طبيعي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فرعي و أقسام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تطبيقات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PT Simple Bold Ruled"/>
              </a:rPr>
              <a:t>آداب تلاوة القرآ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أن يكون القارئ على طهار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تعوذ عند القراء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ff"/>
                </a:solidFill>
                <a:latin typeface="Arial"/>
              </a:rPr>
              <a:t>البسملة عند القراءة من أول السورة ما عدا سورة التوبة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خشوع عند تلاوة 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حسين الصوت ب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دبر في معاني القرآن الكريم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0000"/>
                </a:solidFill>
                <a:latin typeface="Arial Black"/>
                <a:cs typeface="Al-Hadith1"/>
              </a:rPr>
              <a:t>آداب سماع القرآن الكريم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الإنصات الجيد لقراءة القرآن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كلام و العبث أثناء سماع القرآن الكريم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انشغال في التفكر في آيات الرحمن الرحيم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PT Bold Broke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 Black"/>
                <a:cs typeface="PT Bold Broken"/>
              </a:rPr>
              <a:t>أحكام النون الساكنة و التنوي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13000"/>
            <a:ext cx="7559640" cy="2376360"/>
          </a:xfrm>
          <a:prstGeom prst="downArrowCallout">
            <a:avLst>
              <a:gd name="adj1" fmla="val 73969"/>
              <a:gd name="adj2" fmla="val 58896"/>
              <a:gd name="adj3" fmla="val 2247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3300"/>
                </a:solidFill>
                <a:latin typeface="Tahoma"/>
              </a:rPr>
              <a:t>س: ما هي النون الساكنة و التنوين 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645000"/>
            <a:ext cx="3960720" cy="2448000"/>
          </a:xfrm>
          <a:prstGeom prst="leftArrow">
            <a:avLst>
              <a:gd name="adj1" fmla="val 98861"/>
              <a:gd name="adj2" fmla="val 410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النون الساك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    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ن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4319640" cy="2448000"/>
          </a:xfrm>
          <a:prstGeom prst="rightArrow">
            <a:avLst>
              <a:gd name="adj1" fmla="val 100000"/>
              <a:gd name="adj2" fmla="val 4980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التنوي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هو نون تلحق آخر الاسم نطق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لا كتابة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ً       ٍ      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89000"/>
            <a:ext cx="7705800" cy="143964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39640"/>
              <a:gd name="textAreaBottom" fmla="*/ 8888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826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869"/>
                </a:lnTo>
                <a:arcTo wR="21600" hR="35552" stAng="-4611048" swAng="370838"/>
                <a:lnTo>
                  <a:pt x="18900" y="12763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32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763"/>
                </a:lnTo>
                <a:close/>
              </a:path>
              <a:path fill="none" w="21600" h="21600">
                <a:moveTo>
                  <a:pt x="5748" y="1432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32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869"/>
                </a:moveTo>
                <a:lnTo>
                  <a:pt x="3048" y="15704"/>
                </a:lnTo>
              </a:path>
              <a:path fill="none" w="21600" h="21600">
                <a:moveTo>
                  <a:pt x="18552" y="5869"/>
                </a:moveTo>
                <a:lnTo>
                  <a:pt x="18552" y="1570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ahoma"/>
                <a:cs typeface="PT Simple Bold Ruled"/>
              </a:rPr>
              <a:t>أحكام النون الساكنة و التنوي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637000"/>
            <a:ext cx="252108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لإظهــار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797360"/>
            <a:ext cx="316836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دغــ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95920"/>
            <a:ext cx="3024360" cy="1728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الإقــــلا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637000"/>
            <a:ext cx="259236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خفـــ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268280"/>
            <a:ext cx="316872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Tahoma"/>
              </a:rPr>
              <a:t>أربعــة أحك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06064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060640"/>
            <a:ext cx="129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2060640"/>
            <a:ext cx="165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2060640"/>
            <a:ext cx="1584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Simple Bold Ruled"/>
              </a:rPr>
              <a:t>الإظهــــا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هو أن تخرج النون الساكنة و التنوين من مخرجه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واضحتين بدون 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9000">
            <a:off x="7781760" y="4365720"/>
            <a:ext cx="9367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62000">
            <a:off x="6409800" y="4437000"/>
            <a:ext cx="863640" cy="129564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6600"/>
                </a:solidFill>
                <a:latin typeface="Tahoma"/>
              </a:rPr>
              <a:t>ه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4800">
            <a:off x="4897080" y="4508280"/>
            <a:ext cx="1008000" cy="1222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657400">
            <a:off x="3203640" y="4581000"/>
            <a:ext cx="100800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413200">
            <a:off x="1810800" y="4436640"/>
            <a:ext cx="100836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716200">
            <a:off x="495000" y="4436640"/>
            <a:ext cx="9349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68640"/>
            <a:ext cx="3816360" cy="122400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734080"/>
            <a:ext cx="80643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أ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خي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 ه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ك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ع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لمًا            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ح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زه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غ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ير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خ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اس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Hadith1"/>
              </a:rPr>
              <a:t>الإدغــــ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l-Hadith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781360"/>
            <a:ext cx="3600360" cy="1366920"/>
          </a:xfrm>
          <a:custGeom>
            <a:avLst/>
            <a:gdLst>
              <a:gd name="textAreaLeft" fmla="*/ 113400 w 3600360"/>
              <a:gd name="textAreaRight" fmla="*/ 3714120 w 3600360"/>
              <a:gd name="textAreaTop" fmla="*/ 161640 h 1366920"/>
              <a:gd name="textAreaBottom" fmla="*/ 1205280 h 1366920"/>
            </a:gdLst>
            <a:ahLst/>
            <a:rect l="textAreaLeft" t="textAreaTop" r="textAreaRight" b="textAreaBottom"/>
            <a:pathLst>
              <a:path w="21600" h="21600">
                <a:moveTo>
                  <a:pt x="682" y="1279"/>
                </a:moveTo>
                <a:cubicBezTo>
                  <a:pt x="3941" y="-3252"/>
                  <a:pt x="7882" y="5810"/>
                  <a:pt x="11141" y="1279"/>
                </a:cubicBezTo>
                <a:cubicBezTo>
                  <a:pt x="14400" y="-3252"/>
                  <a:pt x="18341" y="5810"/>
                  <a:pt x="21600" y="1279"/>
                </a:cubicBezTo>
                <a:lnTo>
                  <a:pt x="20918" y="20321"/>
                </a:lnTo>
                <a:cubicBezTo>
                  <a:pt x="17659" y="24852"/>
                  <a:pt x="13718" y="15790"/>
                  <a:pt x="10459" y="20321"/>
                </a:cubicBezTo>
                <a:cubicBezTo>
                  <a:pt x="7200" y="24852"/>
                  <a:pt x="3259" y="15790"/>
                  <a:pt x="0" y="2032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l-Hadith1"/>
              </a:rPr>
              <a:t>حروفــ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Hesham Ghorn Italic"/>
              </a:rPr>
              <a:t>هو إدخال النون الساكنة أوالتنوين في أحد حروف الإدغ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3645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365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863640" cy="936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5373720"/>
            <a:ext cx="5904000" cy="1484280"/>
          </a:xfrm>
          <a:prstGeom prst="horizontalScroll">
            <a:avLst>
              <a:gd name="adj" fmla="val 9944"/>
            </a:avLst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يـ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ر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م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ـلـ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ـــــــــــــون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0:21:33Z</dcterms:created>
  <dc:creator>s</dc:creator>
  <dc:description/>
  <dc:language>en-US</dc:language>
  <cp:lastModifiedBy>جمعة</cp:lastModifiedBy>
  <dcterms:modified xsi:type="dcterms:W3CDTF">2008-11-13T00:10:09Z</dcterms:modified>
  <cp:revision>35</cp:revision>
  <dc:subject/>
  <dc:title>بسم الله الرحمن الرحيم  المملكة العربية السعودية  وزارة التربية و التعليم الإدارة العامة للتربية و التعليم بمنطقة المدينة المنورة  المدرسة الصيفية لتحفيظ القرآن الكريم  بمدرسة صلاح الدين الأيوبي  </dc:title>
</cp:coreProperties>
</file>